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A2D-C633-4613-BEF3-76872BE1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65C1-C9BB-4FE9-830D-667298BD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5B43F-155C-4E26-9E44-0B1BB10C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A2752-F005-48D5-8D35-4D81771A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7DA8A-DC87-447A-9DBE-982BF5B4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2481C-3F2F-4371-8F13-E8AB3F1A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EBE04-823C-44D1-A91C-574FFEFD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22C65-4ADA-4CEB-A41A-217B94A9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49B9A-95BD-4ED3-8CBD-C75D5218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C5DA3-A094-4C35-A09E-E06FAAB9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6FF4D-100A-48C4-96C7-0322D386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C158F-F2FC-4887-BFD2-96319C98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1E7-6927-4D70-80E1-70BC42A1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8D555-D0FD-4702-A868-8E720BBA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0CF85-6C2B-4776-86DF-BE2C25B3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59650-54DC-486F-B4D5-6C3AAE6C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9CF2F-7580-4A79-99E0-9C64FAA5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AB4EF-645B-4ED9-8B0D-12AC9518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6B8DA-CDC5-4D4C-A3D7-0A11721D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0134C-62C8-4271-9D9D-33CFFE92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56071-C636-4AAF-8053-80002D07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6E6EE-EFD5-4375-AED4-04221CA0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D4C02-1F8E-4154-9EBF-EA9B268D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406-8520-4A74-8FDD-8B68A081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2622F-FC01-40AA-823D-4DE0433E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E0F4-8F3C-47A9-ADD6-341FC0A9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C01A-06E6-4D1C-9F9E-908BE4B9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B9E5-7D12-4F2C-9864-E14C6605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13CB-BA06-499C-A84B-380F1D43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5C76-8D3B-4FC2-B0E8-AF583398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9A15-ED2B-4A3E-A36C-3D1625B3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BD1F-C607-4F55-94E2-AEC7378E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E17B-81E3-4D91-A1D4-78CE9FEC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BDE4-0F5D-42CC-8686-B0068280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159E-6EBE-4160-BD30-C3B490C3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D99F-A920-4763-B915-2826353A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FB3E-B767-4E9B-A415-10DD3A24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745D-99DC-4B3E-9984-00D2A04E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CD5CF-5FAD-42AE-B63E-3E67CEE9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56ADA-CA25-4B92-B369-03729D7E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1A4AB-8C76-4CFA-8294-87A0F519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97FCE-85EF-4218-8F61-70C8CD34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2F024-0BFC-41E0-9D34-9D54158A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AD71-192F-4692-BD52-20B4E720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2B9CA-DFCB-4E28-AF5A-E853F088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2A2DA-008E-42AE-939A-1A73CD82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A37E4-E0B4-4D48-A674-A752E69D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7973E-B90A-4E76-BA3A-57281767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FC0C7-43A2-4F6A-8391-D6E04CDC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14B9-8D3C-4194-91B0-ED2D43E0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E529B-36B2-49BF-B742-421147C5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A9CF1-C122-4185-A980-CE931333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DB588-B32E-4749-8057-D7E06F18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45FD1-A84B-4B96-85C9-63F14FE9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8F3-3417-4D05-9F3D-4FAE58F7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E74D0-8BE7-430D-AA8E-523CDE33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6816D-934D-4888-9A78-CBD374EE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DEA9F-4A68-4D71-BFD5-DEE5E65B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54A40-C9A7-4FCD-9605-F5555122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B73DE-574C-4D60-BD36-20025B43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75891-C480-4FB9-AA76-5F8050F6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16613-DE0E-4ABC-8F83-63C933CC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EDBFA-6D1A-4819-A3A1-DF405ACB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C4FFE-DF5A-48B9-B15E-886B19DB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8A72E-F7F6-4E11-9BFC-6B51F110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A9B-D2F2-4518-9CCC-396AFADA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83FBB-3682-4E3E-9C64-F7C84064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598E8-458F-44FC-A02D-B92D71B6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343F5-DE9A-4441-9C0C-9FD2FD11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D7BC9-DAF8-4019-A966-E1E75E68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B447D-01D4-4A9E-B018-FEA563A6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1832D-9761-4975-9FCD-7BF0141C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43FD4-3A04-41B3-87DB-D91ACBF9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45D38-3F8E-4C5F-B752-54C130A5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60CFC-B20B-45CB-8844-B2AB8F40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EC963-BBD4-4C21-8978-FCC51CE8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F3A-AAF1-4C9E-AF8D-232D6031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57135-04B1-4B44-A541-E82F93A8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B169F-B317-435C-BAB9-8D41AFC5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B3691-639C-43E6-A8C3-D88C2B95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819BF-798A-41CC-BDAB-96B634A6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B6A49-D6A0-499F-8F58-68A3807A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BEED0-B58F-4553-857C-7C725F5A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1B79E-8B8C-415A-999C-099E35A1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E8890-6B2C-4C41-ACE7-393F1371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80C7A-E369-4633-83A3-CB09C75C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F21B7-AEA4-431A-A618-7A45EA54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985-DDC8-4E61-8B4A-068D93D1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EBF77-B19A-4DF2-B905-8DCACE25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EDC24-2D39-45B7-A032-D87B4C47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698F5-7B19-454A-87D3-8AA3AA8D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8061B-0678-4957-BE62-F144511A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6DE95-F776-48A1-A1E9-B7963A4D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CEB7B-8A4D-4E2C-BCD7-F7AA3ECE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4D72C-3F62-4AFF-BA02-19911228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604CC-BB1A-4085-86B0-DAE0C6EB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E213C-3FE7-4E2F-9229-EBB25BB6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86890-FF38-4698-BD15-345EA82D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965-C540-4530-86AC-AB1AFB30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148CB-C71C-4B2A-A284-65698162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2BDEA-F479-431C-9423-355AE2F5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80397-EB12-499C-A37D-8539EF81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A8F28-7C18-4216-B3C8-5564BA89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2C56B-DA65-4458-B0CC-5EFCB125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CD9EE-F323-415A-988E-8DC62BD0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1F5B5-EC86-4611-973C-7DEC7248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BAB70-1A4B-4C35-8D44-89A1F169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A7263-3ACA-4597-8DF2-97B2D192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49013-5C5C-4E19-8BFF-37C67665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12C-FECC-4F4E-9842-B9012C60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CAE2B-A5F3-4505-98A3-9F667684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551E9-72CE-4745-8C60-6AF50747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4C0CB-80E2-4A4D-B02B-5BD5F6C1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0A800-4CBA-4287-9EBA-D1620046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544B5-4972-44ED-99EC-B527D8FB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2D753-19BC-4CCC-9153-6E53A162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76988-E469-4CB4-96FF-96C22E47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BB39A-5FFE-48FE-809F-20C83C88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027E5-728F-4C20-B4A2-E640C6B2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03839-8721-41F1-812A-00B006E2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0205-F1D5-46E7-90B2-77F7D533C01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BD53-654E-445E-9F94-E9428C70C36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8AD8-F4B2-4B04-B6CF-D336625CCDE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88FC-A87C-4D51-90F6-997443DF078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EEDB-6F2E-4C99-A936-DEF16A905BB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E8EE-68C8-49DA-8893-182B50DEAEB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ED26-7F46-4561-BCC4-89F600A75DD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3847-B9B3-4049-A274-18F03838C2E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7AFA-9216-4A54-83B7-4F34EAB0D20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6586-72D8-45CF-8C1D-41F9CE7AB73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8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언제 한국에 오셨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를 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음 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을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디음 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에 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이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봤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난 주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서울에 왔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6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작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을 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청소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무엇을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누구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          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우안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한국에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4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23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일에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우안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한국에서 무엇을 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회사에서 일합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오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ay (dat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회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언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en; inte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언제 왔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언제가 좋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생일이 언제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suffix (ending) to make it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보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보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았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먹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먹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었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였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오늘 아침에 병원에 갔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제 소설책을 읽었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작년에 해외 여행을 갔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숫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Fig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Sino Kore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1    2    3    4   5    6   7    8    9   10  100  1,000 10,000 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일 이 삼 사 오 육 칠 팔 구 십 백 천 만 억 조 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Original Kore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나 둘 셋 넷 다섯 여섯 일곱 여덟 아홉 열 스물 서른 마흔 쉬흔 예순 일흔 여든 아흔 백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 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/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3/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2/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6/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0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오늘이 몇 월 며칠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일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7/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2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/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1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4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셨습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을 찍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을 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전화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26T01:14:27Z</dcterms:modified>
  <cp:revision>101</cp:revision>
  <dc:subject/>
  <dc:title>KOREAN LANGUAGE</dc:title>
</cp:coreProperties>
</file>